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D0D-EA83-4297-A288-72DC98B8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6F0-286E-419B-939A-D249F33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EB1-0D65-4506-8C68-AD242E9C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644-7D49-4959-B359-BEADEE1A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723-ACC7-41EC-98FC-6F3C60F6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CB8-86EB-438C-9DA1-D43B861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D6F-FCCF-4F0E-8FE5-956D66F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8A9-EEB5-4540-80D6-59BA1A5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525-6AB8-4458-9388-F29A7381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136-D259-4F45-B37C-DF99276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953-90FE-4CF2-8DA6-6CB4421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AF3-0F36-4BBB-AA9C-7356FD67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DEA-B0E8-4AE6-8428-1B5E95200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Поремећаји ацидобазне равнотеж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без анјонског ј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троинтестинални губици бикарбо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ренажа панкреасних и танког црева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ковима индукована хипер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уретици који штеде кал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метопри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нтам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ЦЕ инхибитори и АР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СА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спорин и 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емећаји метаболизма воде и електрол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вол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натр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и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ием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меостаза магнез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333360"/>
            <a:ext cx="307980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Dies diem doc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Labor praebet quod natura neg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иселине и базе – дефиниција и зна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ак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аб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спарљив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иксне (метаболичке, неиспарљиве кисел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ак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лабе б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дбрана против нарушавања pH вре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мене у вентила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брежни механизми за излучивање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синтезу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уф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карбон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nderson-Hasselbalcho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днач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сфатн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еински пуфер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спираторна регулациј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спираторн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зација метаболичких ацидо-базних поремећ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брежна контрола ацидобазне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реција водоникових јона и реапсорпција бикарбонатних јона бубрежним тубул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зивање вишка водоникових јона фосфатним и амонијачним пуферима у тубулу – механизам стварања нових бикарбонатних ј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на бубрежне ацидобазне секре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чка алка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за и врсте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едноставни ацидо-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шани ацидобаз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чка ацидоза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сок анјонски ј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ктатн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ето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јабетич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до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кс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брежна слабост (акутна и хронич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7:58:01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